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7CA38-A144-49D0-8BF0-540F55F68F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C726D-C2DA-4817-985E-F7D245D16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5C8ED-23F6-4CD3-8642-8358079A11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A228A0-97FC-4A84-8F87-881E4619A5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297A62-9109-4E23-8AD5-D0A5A051A8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27E39E-4E2D-4925-AF07-479D10DBF2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C990BA-C4D2-452F-A326-CE17041923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F11255-6268-48B3-A0C0-A54E130295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B17ADC-F93F-4660-AC28-DFBFC432E5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9A973C-BA4A-4A62-915B-5848E41639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CE1186-9A73-4CC6-B1A0-AFB07496E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642C6-3425-42EE-869E-3F790131F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B1779D-5582-41B1-B90A-261F6E499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4BC61-C63D-4BE5-8753-161372FD2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84EE30-A352-4B80-9671-E6A60AD251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B570D3-F0E7-48CE-8EDA-FD49A5C584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A5EDC2-7E37-4B4F-A169-5162731E1D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E1122C-1082-40FB-A95A-D2BFD173EF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7C910D-9051-48AB-937D-428C2D108E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397D77-5843-41C3-8ED8-E2CA617AD2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68CDE7-7060-4673-BF61-70CB31A4AE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4DE789-3192-4856-8B68-3BE6841095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1F723-842F-4CB5-9B42-1DF8E4185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C0E5B5-C9E1-462A-BDBF-E5CDB8B312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EB7938-6CE6-4B77-8F56-38F41D3C03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9C3812-5559-4298-B02D-2D8E1CCB1D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3A5464-2740-4177-A206-CB9BAA749B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1B8D3E-D136-4ADE-A5CD-866B387944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6DA458-8FAB-4166-92ED-933F7AE4D9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C2AB2D-BB38-4CDB-932C-6261D0FAF5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D86525-2091-4279-A331-BEF8A2AFFF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52710E-0A8D-48A6-9D9C-E7AAB84D54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64EBCE-F4D6-4118-99ED-C34D294261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87120-E5A5-4C5B-B701-4B4FE89CD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D7E29C-FBF2-4154-9CA6-C4EAFF9D6E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25B18B-BC45-4B6D-9BFF-61D1C52506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5713D3-36AA-41EA-B21E-5E4BE7211D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578023-9076-4696-AA56-E41C0840FE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5803B3-9FC4-46E0-B930-337FA3C26B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50FD84-07AA-4A34-B7D8-2CE2A9FA81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233640-53AE-4C6C-B75E-4B0B7ADC5E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002F5C-E353-4A1E-9BB7-44A7C407EF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E0D0E3-E473-49DD-9D56-EC337936E5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65A2E-7294-4F83-ABC3-6A3AED9DB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B09BA-70DE-4ADF-85A4-C33F62CBD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B2F38-1DFE-4489-9D9A-BE717E341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B64C8-DFBF-4066-9280-78ADC1A93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B2B43-5775-4AFF-BB90-C55F3239A1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17C3A-8A01-4CC3-A160-2E1A0828D44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4" name="Picture 8" descr="LOGO"/>
          <p:cNvPicPr/>
          <p:nvPr/>
        </p:nvPicPr>
        <p:blipFill>
          <a:blip r:embed="rId5"/>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0" name="Picture 8" descr="LOGO"/>
          <p:cNvPicPr/>
          <p:nvPr/>
        </p:nvPicPr>
        <p:blipFill>
          <a:blip r:embed="rId5"/>
          <a:stretch/>
        </p:blipFill>
        <p:spPr>
          <a:xfrm>
            <a:off x="2000160" y="0"/>
            <a:ext cx="4857840" cy="1163520"/>
          </a:xfrm>
          <a:prstGeom prst="rect">
            <a:avLst/>
          </a:prstGeom>
          <a:ln w="0">
            <a:noFill/>
          </a:ln>
        </p:spPr>
      </p:pic>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lt;date/time&gt;</a:t>
            </a:r>
            <a:endParaRPr b="0" lang="en-US" sz="1200" spc="-1" strike="noStrike">
              <a:solidFill>
                <a:srgbClr val="000000"/>
              </a:solidFill>
              <a:latin typeface="Arial"/>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8E2F5-640C-4985-BDDF-4EA74B223BD9}"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11" name="Picture 8" descr="LOGO"/>
          <p:cNvPicPr/>
          <p:nvPr/>
        </p:nvPicPr>
        <p:blipFill>
          <a:blip r:embed="rId5"/>
          <a:stretch/>
        </p:blipFill>
        <p:spPr>
          <a:xfrm>
            <a:off x="2000160" y="0"/>
            <a:ext cx="4857840" cy="1163520"/>
          </a:xfrm>
          <a:prstGeom prst="rect">
            <a:avLst/>
          </a:prstGeom>
          <a:ln w="0">
            <a:noFill/>
          </a:ln>
        </p:spPr>
      </p:pic>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lt;date/time&gt;</a:t>
            </a:r>
            <a:endParaRPr b="0" lang="en-US" sz="1200" spc="-1" strike="noStrike">
              <a:solidFill>
                <a:srgbClr val="000000"/>
              </a:solidFill>
              <a:latin typeface="Arial"/>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33573-9CAA-4CD8-AA37-1D9AD09BFFAB}"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lt;date/time&gt;</a:t>
            </a:r>
            <a:endParaRPr b="0" lang="en-US" sz="1200" spc="-1" strike="noStrike">
              <a:solidFill>
                <a:srgbClr val="000000"/>
              </a:solidFill>
              <a:latin typeface="Arial"/>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9DC9B-65D6-410A-9B97-BA86DE30C767}"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Интегрисане академске студиј</a:t>
            </a:r>
            <a:r>
              <a:rPr b="0" lang="sr-CS" sz="2400" spc="-1" strike="noStrike">
                <a:solidFill>
                  <a:srgbClr val="04617b"/>
                </a:solidFill>
                <a:latin typeface="Arial"/>
              </a:rPr>
              <a:t>е стоматологије</a:t>
            </a:r>
            <a:endParaRPr b="0" lang="en-US" sz="2400" spc="-1" strike="noStrike">
              <a:solidFill>
                <a:srgbClr val="04617b"/>
              </a:solidFill>
              <a:latin typeface="Calibri"/>
            </a:endParaRPr>
          </a:p>
        </p:txBody>
      </p:sp>
      <p:sp>
        <p:nvSpPr>
          <p:cNvPr id="1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Предмет: Енглески језик</a:t>
            </a:r>
            <a:endParaRPr b="0" lang="en-US" sz="28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Шифра предмета: </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Предавач: Душица Лазић</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934640"/>
            <a:ext cx="8229600" cy="4389480"/>
          </a:xfrm>
          <a:prstGeom prst="rect">
            <a:avLst/>
          </a:prstGeom>
          <a:noFill/>
          <a:ln w="0">
            <a:noFill/>
          </a:ln>
        </p:spPr>
        <p:txBody>
          <a:bodyPr anchor="t">
            <a:normAutofit fontScale="93000"/>
          </a:bodyPr>
          <a:p>
            <a:pPr marL="253440" indent="318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53440" indent="31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Human beings are the most complex organisms on this planet. The human body is a single structure but it is made up of billions of smaller structures of four major kinds: cells, tissues, organs and systems. Cells have long been recognized as the simplest units of living matter that can maintain life and reproduce themselves. The human body, which is made up of numerous cells, begins as a single, newly fertilized cell. Tissues are somewhat more complex units than cells. By definition, a tissue is an organization of a great many similar cells with varying amounts and kinds of nonliving, intercellular substance between them. Organs are more complex units than tissues. An organ is an organization of several different kinds of tissues………..</a:t>
            </a:r>
            <a:endParaRPr b="0" lang="en-US" sz="2000" spc="-1" strike="noStrike">
              <a:solidFill>
                <a:srgbClr val="000000"/>
              </a:solidFill>
              <a:latin typeface="Constantia"/>
            </a:endParaRPr>
          </a:p>
          <a:p>
            <a:pPr marL="253440" indent="3189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The rest of the lesson can be found in the textbook “English in Dentistry” by Natasa Milosavljevic </a:t>
            </a:r>
            <a:endParaRPr b="0" lang="en-US" sz="2000" spc="-1" strike="noStrike">
              <a:solidFill>
                <a:srgbClr val="000000"/>
              </a:solidFill>
              <a:latin typeface="Constantia"/>
            </a:endParaRPr>
          </a:p>
        </p:txBody>
      </p:sp>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Human Body Structure</a:t>
            </a:r>
            <a:endParaRPr b="0" lang="en-US" sz="28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Words to remember:</a:t>
            </a:r>
            <a:endParaRPr b="0" lang="en-US" sz="28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fontScale="99000"/>
          </a:bodyPr>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trix</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quamous</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udal</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orsal</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ximal</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stal</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edial</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aggital</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xial</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fferent</a:t>
            </a:r>
            <a:endParaRPr b="0" lang="en-US" sz="2400" spc="-1" strike="noStrike">
              <a:solidFill>
                <a:srgbClr val="000000"/>
              </a:solidFill>
              <a:latin typeface="Constantia"/>
            </a:endParaRPr>
          </a:p>
          <a:p>
            <a:pPr marL="270000" indent="-2700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24000" y="9806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Talking Points:</a:t>
            </a:r>
            <a:br>
              <a:rPr sz="2000"/>
            </a:br>
            <a:endParaRPr b="0" lang="en-US" sz="2800" spc="-1" strike="noStrike">
              <a:solidFill>
                <a:srgbClr val="04617b"/>
              </a:solidFill>
              <a:latin typeface="Calibri"/>
            </a:endParaRPr>
          </a:p>
        </p:txBody>
      </p:sp>
      <p:sp>
        <p:nvSpPr>
          <p:cNvPr id="205" name=""/>
          <p:cNvSpPr txBox="1"/>
          <p:nvPr/>
        </p:nvSpPr>
        <p:spPr>
          <a:xfrm>
            <a:off x="684360" y="1988640"/>
            <a:ext cx="8229600" cy="45262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uman Body Structure</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ell Structure and Function</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rgans and Systems</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Complete the following statements:</a:t>
            </a:r>
            <a:endParaRPr b="0" lang="en-US" sz="2800" spc="-1" strike="noStrike">
              <a:solidFill>
                <a:srgbClr val="04617b"/>
              </a:solidFill>
              <a:latin typeface="Calibri"/>
            </a:endParaRPr>
          </a:p>
        </p:txBody>
      </p:sp>
      <p:sp>
        <p:nvSpPr>
          <p:cNvPr id="207" name="PlaceHolder 2"/>
          <p:cNvSpPr>
            <a:spLocks noGrp="1"/>
          </p:cNvSpPr>
          <p:nvPr>
            <p:ph/>
          </p:nvPr>
        </p:nvSpPr>
        <p:spPr>
          <a:xfrm>
            <a:off x="457200" y="1934640"/>
            <a:ext cx="8229600" cy="4389480"/>
          </a:xfrm>
          <a:prstGeom prst="rect">
            <a:avLst/>
          </a:prstGeom>
          <a:noFill/>
          <a:ln w="0">
            <a:noFill/>
          </a:ln>
        </p:spPr>
        <p:txBody>
          <a:bodyPr anchor="t">
            <a:normAutofit/>
          </a:bodyPr>
          <a:p>
            <a:pPr marL="495360" indent="-4953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body cavity is………………………………………………………..</a:t>
            </a:r>
            <a:endParaRPr b="0" lang="en-US" sz="2400" spc="-1" strike="noStrike">
              <a:solidFill>
                <a:srgbClr val="000000"/>
              </a:solidFill>
              <a:latin typeface="Constantia"/>
            </a:endParaRPr>
          </a:p>
          <a:p>
            <a:pPr marL="495360" indent="-4953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oracic cavity includes…………………………………………..</a:t>
            </a:r>
            <a:endParaRPr b="0" lang="en-US" sz="2400" spc="-1" strike="noStrike">
              <a:solidFill>
                <a:srgbClr val="000000"/>
              </a:solidFill>
              <a:latin typeface="Constantia"/>
            </a:endParaRPr>
          </a:p>
          <a:p>
            <a:pPr marL="495360" indent="-4953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peritoneum is…………………………………………………….</a:t>
            </a:r>
            <a:endParaRPr b="0" lang="en-US" sz="2400" spc="-1" strike="noStrike">
              <a:solidFill>
                <a:srgbClr val="000000"/>
              </a:solidFill>
              <a:latin typeface="Constantia"/>
            </a:endParaRPr>
          </a:p>
          <a:p>
            <a:pPr marL="495360" indent="-4953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erves of the spinal cord belong to……..…………cavity.</a:t>
            </a:r>
            <a:endParaRPr b="0" lang="en-US" sz="2400" spc="-1" strike="noStrike">
              <a:solidFill>
                <a:srgbClr val="000000"/>
              </a:solidFill>
              <a:latin typeface="Constantia"/>
            </a:endParaRPr>
          </a:p>
          <a:p>
            <a:pPr marL="495360" indent="-4953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elvic cavity consists of…………………………………...……….</a:t>
            </a:r>
            <a:endParaRPr b="0" lang="en-US" sz="2400" spc="-1" strike="noStrike">
              <a:solidFill>
                <a:srgbClr val="000000"/>
              </a:solidFill>
              <a:latin typeface="Constantia"/>
            </a:endParaRPr>
          </a:p>
          <a:p>
            <a:pPr marL="49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49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49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49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49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49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49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49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49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49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Provide the antonyms of the following terms:</a:t>
            </a:r>
            <a:endParaRPr b="0" lang="en-US" sz="28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uperio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n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uperficial</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terio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fferen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udal</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Provide the synonyms of the following words:</a:t>
            </a:r>
            <a:endParaRPr b="0" lang="en-US" sz="28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ortion</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mply</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ronal</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trac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ind</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enerate</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Translate into English:</a:t>
            </a:r>
            <a:endParaRPr b="0" lang="en-US" sz="28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Ћелија је најмања функционална јединица живог организма. Другим речима, ћелија је способна да обавља основне животне функције какве су метаболизам, раст, кретање, репродукција и преношење наслеђа. Све ћелије се састоје од ћелијске мембране, цитоплазме и субћелијских структура окружених мембраном, познатим под именом органеле. Ткива се према грађи и функцији коју обављају деле на епително, везивно, мишићно и нервно. Сва ткива се састоје од ћелија и међућелијске супстанце.</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14-02-08T20:23:18Z</dcterms:modified>
  <cp:revision>37</cp:revision>
  <dc:subject/>
  <dc:title>Slide 1</dc:title>
</cp:coreProperties>
</file>